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arrow.wav" ContentType="audio/x-wav"/>
  <Override PartName="/ppt/media/devilshy%20clever.wav" ContentType="audio/x-wav"/>
  <Override PartName="/ppt/media/tube.wav" ContentType="audio/x-wav"/>
  <Override PartName="/ppt/media/chimes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hammer.wav" ContentType="audio/x-wav"/>
  <Override PartName="/ppt/media/photon.wav" ContentType="audio/x-wav"/>
  <Override PartName="/ppt/media/image4.png" ContentType="image/png"/>
  <Override PartName="/ppt/media/geiger.wav" ContentType="audio/x-wav"/>
  <Override PartName="/ppt/media/image1.gif" ContentType="image/gif"/>
  <Override PartName="/ppt/media/laser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F023-52DE-473A-A965-A5D204784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0A4C-B3C3-46E0-AC6A-0FF4A1DC1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9F37-2892-44A9-A22D-0DE79332F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A38E-EC7E-4FCE-9DD7-1CA4A412D1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7DC8-92F7-4E67-A7F7-32A0FE30C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7A0C-AC12-453F-81E1-64F1CB9D9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88F8-7D68-4B45-9496-366906B12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6A05-CA1A-425E-87AB-7A9FADEC6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C17A-3080-4A7B-A304-1CD87A3A8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6AEC-612A-4402-BC52-E4C34B5DA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CCAE-0BA1-4ECB-A27D-0FB276F24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A76E-303B-4ED9-AED1-BC55633C6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© 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AFBA-665D-43F3-82E9-032249D29690}" type="slidenum">
              <a:rPr b="1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audio" Target="../media/geiger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hoton.wav"/><Relationship Id="rId4" Type="http://schemas.openxmlformats.org/officeDocument/2006/relationships/audio" Target="../media/photon.wav"/><Relationship Id="rId5" Type="http://schemas.openxmlformats.org/officeDocument/2006/relationships/audio" Target="../media/photon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tube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devilshy%20clever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geiger.wav"/><Relationship Id="rId4" Type="http://schemas.openxmlformats.org/officeDocument/2006/relationships/audio" Target="../media/geige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photon.wav"/><Relationship Id="rId3" Type="http://schemas.openxmlformats.org/officeDocument/2006/relationships/audio" Target="../media/photon.wav"/><Relationship Id="rId4" Type="http://schemas.openxmlformats.org/officeDocument/2006/relationships/audio" Target="../media/photon.wav"/><Relationship Id="rId5" Type="http://schemas.openxmlformats.org/officeDocument/2006/relationships/audio" Target="../media/photon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eiger.wav"/><Relationship Id="rId2" Type="http://schemas.openxmlformats.org/officeDocument/2006/relationships/audio" Target="../media/geiger.wav"/><Relationship Id="rId3" Type="http://schemas.openxmlformats.org/officeDocument/2006/relationships/audio" Target="../media/geig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635280" y="2781360"/>
            <a:ext cx="1727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" name=""/>
          <p:cNvGraphicFramePr/>
          <p:nvPr/>
        </p:nvGraphicFramePr>
        <p:xfrm>
          <a:off x="3059280" y="2205000"/>
          <a:ext cx="2815920" cy="21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2205000"/>
                    <a:ext cx="28159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700360" y="1052640"/>
          <a:ext cx="4114800" cy="337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1052640"/>
                    <a:ext cx="411480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50920" y="4437000"/>
            <a:ext cx="86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RADIOACTIVE DEC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2363-F402-48A7-A64D-57627873B2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24">
                                  <p:stCondLst>
                                    <p:cond delay="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18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Examp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549360"/>
            <a:ext cx="896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 compartment on a Geiger M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üller tube is filled with a solution containing 1.00g of carbon extracted from one of the Dead Sea scrolls.  This gives a count rate of 1000 per hour.  When a similar solution containing 1.00 g of carbon extracted from a living plant is used instead, the count rate is 1200 per hour. With no solution in the compartment, the count rate is 300 per h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Estimate the age of the scroll if the half life of carbon -14 is 5600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2421000"/>
            <a:ext cx="705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original count rate corrected for background radiation is  A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 1200 – 300  = 900 count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rrected count rate after the sample has decayed for t years is A  =  1000 – 300   = 700 count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06760" y="522936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1" lang="en-GB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=  2027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95280" y="3860640"/>
                <a:ext cx="2389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132000" y="3789360"/>
                <a:ext cx="5313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0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4000" y="4941720"/>
                <a:ext cx="35845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BA44-4F1B-4880-A471-F94C90661D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333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MEASUREMENT OF HAL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68280"/>
            <a:ext cx="864072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ff"/>
                </a:solidFill>
                <a:latin typeface="Arial"/>
              </a:rPr>
              <a:t>1. SIMPLY MEASURE AND PLOT HOW THE  ACTIVITY VARIES WIT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76500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MENT OF SHORT HALF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773360"/>
            <a:ext cx="3059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ff"/>
                </a:solidFill>
                <a:latin typeface="Arial"/>
              </a:rPr>
              <a:t>2. REA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124000" y="1773360"/>
          <a:ext cx="662472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73360"/>
                    <a:ext cx="662472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2556000" y="3573360"/>
            <a:ext cx="1605960" cy="1368000"/>
            <a:chOff x="2556000" y="3573360"/>
            <a:chExt cx="1605960" cy="1368000"/>
          </a:xfrm>
        </p:grpSpPr>
        <p:grpSp>
          <p:nvGrpSpPr>
            <p:cNvPr id="161" name=""/>
            <p:cNvGrpSpPr/>
            <p:nvPr/>
          </p:nvGrpSpPr>
          <p:grpSpPr>
            <a:xfrm>
              <a:off x="3082680" y="3783240"/>
              <a:ext cx="1079280" cy="1158120"/>
              <a:chOff x="3082680" y="3783240"/>
              <a:chExt cx="1079280" cy="1158120"/>
            </a:xfrm>
          </p:grpSpPr>
          <p:sp>
            <p:nvSpPr>
              <p:cNvPr id="162" name=""/>
              <p:cNvSpPr/>
              <p:nvPr/>
            </p:nvSpPr>
            <p:spPr>
              <a:xfrm>
                <a:off x="3082680" y="3783240"/>
                <a:ext cx="107928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61960" y="3784320"/>
                <a:ext cx="0" cy="1157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2556000" y="3573360"/>
                  <a:ext cx="347400" cy="39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5" name=""/>
          <p:cNvSpPr/>
          <p:nvPr/>
        </p:nvSpPr>
        <p:spPr>
          <a:xfrm>
            <a:off x="684360" y="494172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59280" y="4437000"/>
            <a:ext cx="1080720" cy="405720"/>
            <a:chOff x="3059280" y="4437000"/>
            <a:chExt cx="1080720" cy="405720"/>
          </a:xfrm>
        </p:grpSpPr>
        <p:grpSp>
          <p:nvGrpSpPr>
            <p:cNvPr id="167" name=""/>
            <p:cNvGrpSpPr/>
            <p:nvPr/>
          </p:nvGrpSpPr>
          <p:grpSpPr>
            <a:xfrm>
              <a:off x="3059280" y="4593960"/>
              <a:ext cx="1080720" cy="1440"/>
              <a:chOff x="3059280" y="4593960"/>
              <a:chExt cx="1080720" cy="144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3059280" y="4595400"/>
                <a:ext cx="3448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93680" y="4593960"/>
                <a:ext cx="3463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349440" y="4437000"/>
              <a:ext cx="69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r>
                <a:rPr b="1" lang="en-GB" sz="1800" spc="-1" strike="noStrike" baseline="-25000">
                  <a:solidFill>
                    <a:srgbClr val="0000ff"/>
                  </a:solidFill>
                  <a:latin typeface="Verdana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39640" y="5661000"/>
            <a:ext cx="37450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PEAT AND AVERAG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5589720"/>
            <a:ext cx="396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en-GB" sz="1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LOT A LOG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54B4-C677-425F-8BF0-E3AA08AA1A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333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MEASUREMENT OF HAL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76500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MENT OF SHORT HALF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94172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1268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G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628640"/>
          <a:ext cx="1576440" cy="12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15764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H="1" flipV="1">
            <a:off x="593280" y="2124000"/>
            <a:ext cx="1970280" cy="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932360" y="1830240"/>
                <a:ext cx="3986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932360" y="2700360"/>
                <a:ext cx="3994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268360" y="1844640"/>
                <a:ext cx="2389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908000" y="3860640"/>
            <a:ext cx="36720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195640" y="4220640"/>
            <a:ext cx="2663640" cy="1584360"/>
            <a:chOff x="2195640" y="4220640"/>
            <a:chExt cx="2663640" cy="1584360"/>
          </a:xfrm>
        </p:grpSpPr>
        <p:sp>
          <p:nvSpPr>
            <p:cNvPr id="185" name=""/>
            <p:cNvSpPr/>
            <p:nvPr/>
          </p:nvSpPr>
          <p:spPr>
            <a:xfrm flipV="1">
              <a:off x="2340000" y="4220640"/>
              <a:ext cx="0" cy="158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5734080"/>
              <a:ext cx="2663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484360" y="4005360"/>
            <a:ext cx="2878200" cy="1921680"/>
            <a:chOff x="2484360" y="4005360"/>
            <a:chExt cx="2878200" cy="1921680"/>
          </a:xfrm>
        </p:grpSpPr>
        <p:sp>
          <p:nvSpPr>
            <p:cNvPr id="188" name=""/>
            <p:cNvSpPr/>
            <p:nvPr/>
          </p:nvSpPr>
          <p:spPr>
            <a:xfrm>
              <a:off x="2484360" y="40053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03640" y="5589720"/>
              <a:ext cx="3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40000" y="4581360"/>
            <a:ext cx="2160720" cy="115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771640" y="4797360"/>
            <a:ext cx="863640" cy="503280"/>
            <a:chOff x="2771640" y="4797360"/>
            <a:chExt cx="863640" cy="503280"/>
          </a:xfrm>
        </p:grpSpPr>
        <p:sp>
          <p:nvSpPr>
            <p:cNvPr id="192" name=""/>
            <p:cNvSpPr/>
            <p:nvPr/>
          </p:nvSpPr>
          <p:spPr>
            <a:xfrm>
              <a:off x="2771640" y="4797360"/>
              <a:ext cx="0" cy="503280"/>
            </a:xfrm>
            <a:prstGeom prst="line">
              <a:avLst/>
            </a:prstGeom>
            <a:ln w="572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71640" y="5300640"/>
              <a:ext cx="863640" cy="0"/>
            </a:xfrm>
            <a:prstGeom prst="line">
              <a:avLst/>
            </a:prstGeom>
            <a:ln w="5724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27640" y="407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gradient = -  </a:t>
            </a:r>
            <a:r>
              <a:rPr b="1" lang="el-GR" sz="2800" spc="-1" strike="noStrike">
                <a:solidFill>
                  <a:srgbClr val="ffff00"/>
                </a:solidFill>
                <a:latin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227640" y="4653000"/>
                <a:ext cx="22766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9987-CFC9-44DB-8416-45AE72D788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ub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333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MEASUREMENT OF HAL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98100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MENT OF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NG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HALF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494172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1484280"/>
            <a:ext cx="3059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ff"/>
                </a:solidFill>
                <a:latin typeface="Arial"/>
              </a:rPr>
              <a:t>1. RECORD 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2492280"/>
            <a:ext cx="68407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ff"/>
                </a:solidFill>
                <a:latin typeface="Arial"/>
              </a:rPr>
              <a:t>2. BY WEIGHING / CHEMICAL ANALYSIS FIND THE </a:t>
            </a:r>
            <a:r>
              <a:rPr b="1" lang="en-GB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66ffff"/>
                </a:solidFill>
                <a:latin typeface="Arial"/>
              </a:rPr>
              <a:t>NUMBER OF MOLES OF MATERIAL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832360" y="1484280"/>
                <a:ext cx="1035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9640" y="3500280"/>
            <a:ext cx="777744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ff"/>
                </a:solidFill>
                <a:latin typeface="Arial"/>
              </a:rPr>
              <a:t>3. USING AVOGADRO’S NUMBER, FIND THE NUMBER OF </a:t>
            </a:r>
            <a:r>
              <a:rPr b="1" lang="en-GB" sz="2000" spc="-1" strike="noStrike">
                <a:solidFill>
                  <a:srgbClr val="ff99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ff"/>
                </a:solidFill>
                <a:latin typeface="Arial"/>
              </a:rPr>
              <a:t>ATOMS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4365720"/>
            <a:ext cx="7561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ff"/>
                </a:solidFill>
                <a:latin typeface="Arial"/>
              </a:rPr>
              <a:t>4. APPLY                                                              TO FIND  </a:t>
            </a:r>
            <a:r>
              <a:rPr b="1" lang="el-GR" sz="3200" spc="-1" strike="noStrike">
                <a:solidFill>
                  <a:srgbClr val="66ffff"/>
                </a:solidFill>
                <a:latin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050920" y="4292640"/>
                <a:ext cx="37432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ity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λ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84360" y="5445000"/>
                <a:ext cx="280836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F581-9285-4A28-BE31-00D7E0F6CF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vilshy%20clev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H="1">
            <a:off x="251640" y="3645000"/>
            <a:ext cx="867564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t is impossible to say when a particula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nucleus will decay .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t is only possible to predict what fraction of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radioactive nuclei will decay in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rtai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20640"/>
            <a:ext cx="84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DIOACTIVE DECAY OF ATOMS (TRANSMUTATION OF ATOMS) IS A RANDOM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04640"/>
            <a:ext cx="8569080" cy="2737080"/>
          </a:xfrm>
          <a:prstGeom prst="donut">
            <a:avLst>
              <a:gd name="adj" fmla="val 522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DIOACTIVE DECAY OF A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(TRANSMUTATION OF AT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   A   RANDOM  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8320" y="2276640"/>
            <a:ext cx="17762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360" y="2205000"/>
            <a:ext cx="2012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072B-5561-47F2-B18A-816E77A06C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30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3213000"/>
            <a:ext cx="861696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oactive Decay is not affec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ysical Conditions - like temperature or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emical Chang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t does not matter if the radioactive isotope is part of a 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81612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half-lif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of a radioactive isotope is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verag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time it takes for half of its atoms to dec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924280"/>
            <a:ext cx="9144000" cy="316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272C9-35D9-444B-9AFD-DC0AB8AFDE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 flipV="1">
            <a:off x="2163960" y="-3126240"/>
            <a:ext cx="12014280" cy="806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09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0988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92360" y="549360"/>
            <a:ext cx="6912000" cy="4842360"/>
            <a:chOff x="1692360" y="549360"/>
            <a:chExt cx="6912000" cy="4842360"/>
          </a:xfrm>
        </p:grpSpPr>
        <p:sp>
          <p:nvSpPr>
            <p:cNvPr id="56" name=""/>
            <p:cNvSpPr/>
            <p:nvPr/>
          </p:nvSpPr>
          <p:spPr>
            <a:xfrm flipV="1">
              <a:off x="2268360" y="1125360"/>
              <a:ext cx="0" cy="395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8000" y="4941720"/>
              <a:ext cx="60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92360" y="54936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umber of atoms,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24720" y="508464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ime,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411280" y="1495440"/>
            <a:ext cx="3240360" cy="405720"/>
            <a:chOff x="2411280" y="1495440"/>
            <a:chExt cx="3240360" cy="405720"/>
          </a:xfrm>
        </p:grpSpPr>
        <p:sp>
          <p:nvSpPr>
            <p:cNvPr id="61" name=""/>
            <p:cNvSpPr/>
            <p:nvPr/>
          </p:nvSpPr>
          <p:spPr>
            <a:xfrm flipH="1">
              <a:off x="2411280" y="167148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32000" y="1495440"/>
              <a:ext cx="251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Initial numb of atoms,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GB" sz="18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741320" y="3068640"/>
            <a:ext cx="1606680" cy="1873080"/>
            <a:chOff x="1741320" y="3068640"/>
            <a:chExt cx="1606680" cy="1873080"/>
          </a:xfrm>
        </p:grpSpPr>
        <p:grpSp>
          <p:nvGrpSpPr>
            <p:cNvPr id="64" name=""/>
            <p:cNvGrpSpPr/>
            <p:nvPr/>
          </p:nvGrpSpPr>
          <p:grpSpPr>
            <a:xfrm>
              <a:off x="2268360" y="3355920"/>
              <a:ext cx="1079640" cy="1585800"/>
              <a:chOff x="2268360" y="3355920"/>
              <a:chExt cx="1079640" cy="1585800"/>
            </a:xfrm>
          </p:grpSpPr>
          <p:sp>
            <p:nvSpPr>
              <p:cNvPr id="65" name=""/>
              <p:cNvSpPr/>
              <p:nvPr/>
            </p:nvSpPr>
            <p:spPr>
              <a:xfrm>
                <a:off x="2268360" y="3355920"/>
                <a:ext cx="107964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348000" y="3357720"/>
                <a:ext cx="0" cy="158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741320" y="3068640"/>
                  <a:ext cx="34776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" name=""/>
          <p:cNvSpPr/>
          <p:nvPr/>
        </p:nvSpPr>
        <p:spPr>
          <a:xfrm>
            <a:off x="4284720" y="260280"/>
            <a:ext cx="4390920" cy="64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LF LIFE   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54320" y="5013360"/>
            <a:ext cx="1123560" cy="405720"/>
            <a:chOff x="2254320" y="5013360"/>
            <a:chExt cx="1123560" cy="405720"/>
          </a:xfrm>
        </p:grpSpPr>
        <p:grpSp>
          <p:nvGrpSpPr>
            <p:cNvPr id="70" name=""/>
            <p:cNvGrpSpPr/>
            <p:nvPr/>
          </p:nvGrpSpPr>
          <p:grpSpPr>
            <a:xfrm>
              <a:off x="2254320" y="5170320"/>
              <a:ext cx="1123560" cy="1440"/>
              <a:chOff x="2254320" y="5170320"/>
              <a:chExt cx="1123560" cy="1440"/>
            </a:xfrm>
          </p:grpSpPr>
          <p:sp>
            <p:nvSpPr>
              <p:cNvPr id="71" name=""/>
              <p:cNvSpPr/>
              <p:nvPr/>
            </p:nvSpPr>
            <p:spPr>
              <a:xfrm flipH="1">
                <a:off x="2254320" y="5171760"/>
                <a:ext cx="35856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17880" y="5170320"/>
                <a:ext cx="360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556000" y="5013360"/>
              <a:ext cx="71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r>
                <a:rPr b="1" lang="en-GB" sz="1800" spc="-1" strike="noStrike" baseline="-25000">
                  <a:solidFill>
                    <a:srgbClr val="0000ff"/>
                  </a:solidFill>
                  <a:latin typeface="Verdana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92360" y="3860640"/>
            <a:ext cx="2807640" cy="1080720"/>
            <a:chOff x="1692360" y="3860640"/>
            <a:chExt cx="2807640" cy="1080720"/>
          </a:xfrm>
        </p:grpSpPr>
        <p:grpSp>
          <p:nvGrpSpPr>
            <p:cNvPr id="75" name=""/>
            <p:cNvGrpSpPr/>
            <p:nvPr/>
          </p:nvGrpSpPr>
          <p:grpSpPr>
            <a:xfrm>
              <a:off x="2268360" y="4165200"/>
              <a:ext cx="2231640" cy="776160"/>
              <a:chOff x="2268360" y="4165200"/>
              <a:chExt cx="2231640" cy="776160"/>
            </a:xfrm>
          </p:grpSpPr>
          <p:sp>
            <p:nvSpPr>
              <p:cNvPr id="76" name=""/>
              <p:cNvSpPr/>
              <p:nvPr/>
            </p:nvSpPr>
            <p:spPr>
              <a:xfrm>
                <a:off x="2268360" y="4165200"/>
                <a:ext cx="223164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00000" y="4165920"/>
                <a:ext cx="0" cy="775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92360" y="3860640"/>
                  <a:ext cx="477720" cy="56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"/>
          <p:cNvGrpSpPr/>
          <p:nvPr/>
        </p:nvGrpSpPr>
        <p:grpSpPr>
          <a:xfrm>
            <a:off x="3390480" y="5013360"/>
            <a:ext cx="1152000" cy="405720"/>
            <a:chOff x="3390480" y="5013360"/>
            <a:chExt cx="1152000" cy="405720"/>
          </a:xfrm>
        </p:grpSpPr>
        <p:grpSp>
          <p:nvGrpSpPr>
            <p:cNvPr id="80" name=""/>
            <p:cNvGrpSpPr/>
            <p:nvPr/>
          </p:nvGrpSpPr>
          <p:grpSpPr>
            <a:xfrm>
              <a:off x="3390480" y="5170320"/>
              <a:ext cx="1152000" cy="1440"/>
              <a:chOff x="3390480" y="5170320"/>
              <a:chExt cx="1152000" cy="144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3390480" y="5171760"/>
                <a:ext cx="36756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73480" y="5170320"/>
                <a:ext cx="369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700080" y="5013360"/>
              <a:ext cx="73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r>
                <a:rPr b="1" lang="en-GB" sz="1800" spc="-1" strike="noStrike" baseline="-25000">
                  <a:solidFill>
                    <a:srgbClr val="0000ff"/>
                  </a:solidFill>
                  <a:latin typeface="Verdana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92360" y="4437000"/>
            <a:ext cx="4030920" cy="536760"/>
            <a:chOff x="1692360" y="4437000"/>
            <a:chExt cx="4030920" cy="536760"/>
          </a:xfrm>
        </p:grpSpPr>
        <p:grpSp>
          <p:nvGrpSpPr>
            <p:cNvPr id="85" name=""/>
            <p:cNvGrpSpPr/>
            <p:nvPr/>
          </p:nvGrpSpPr>
          <p:grpSpPr>
            <a:xfrm>
              <a:off x="2268360" y="4581360"/>
              <a:ext cx="3454920" cy="360360"/>
              <a:chOff x="2268360" y="4581360"/>
              <a:chExt cx="3454920" cy="360360"/>
            </a:xfrm>
          </p:grpSpPr>
          <p:sp>
            <p:nvSpPr>
              <p:cNvPr id="86" name=""/>
              <p:cNvSpPr/>
              <p:nvPr/>
            </p:nvSpPr>
            <p:spPr>
              <a:xfrm>
                <a:off x="2268360" y="4581360"/>
                <a:ext cx="3454920" cy="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23280" y="4581720"/>
                <a:ext cx="0" cy="360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692360" y="4437000"/>
                  <a:ext cx="47772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" name=""/>
          <p:cNvGrpSpPr/>
          <p:nvPr/>
        </p:nvGrpSpPr>
        <p:grpSpPr>
          <a:xfrm>
            <a:off x="4571640" y="5013360"/>
            <a:ext cx="1152000" cy="405720"/>
            <a:chOff x="4571640" y="5013360"/>
            <a:chExt cx="1152000" cy="405720"/>
          </a:xfrm>
        </p:grpSpPr>
        <p:grpSp>
          <p:nvGrpSpPr>
            <p:cNvPr id="90" name=""/>
            <p:cNvGrpSpPr/>
            <p:nvPr/>
          </p:nvGrpSpPr>
          <p:grpSpPr>
            <a:xfrm>
              <a:off x="4571640" y="5170320"/>
              <a:ext cx="1152000" cy="1440"/>
              <a:chOff x="4571640" y="5170320"/>
              <a:chExt cx="1152000" cy="1440"/>
            </a:xfrm>
          </p:grpSpPr>
          <p:sp>
            <p:nvSpPr>
              <p:cNvPr id="91" name=""/>
              <p:cNvSpPr/>
              <p:nvPr/>
            </p:nvSpPr>
            <p:spPr>
              <a:xfrm flipH="1">
                <a:off x="4571640" y="5171760"/>
                <a:ext cx="36756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54640" y="5170320"/>
                <a:ext cx="369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81240" y="5013360"/>
              <a:ext cx="73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r>
                <a:rPr b="1" lang="en-GB" sz="1800" spc="-1" strike="noStrike" baseline="-25000">
                  <a:solidFill>
                    <a:srgbClr val="0000ff"/>
                  </a:solidFill>
                  <a:latin typeface="Verdana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796000" y="1125360"/>
            <a:ext cx="2952720" cy="146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HE RATE OF DECAY DEPENDS UPON THE AMOUNT OF MATERIAL REMAINING, SO THE DECAY 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2E32-F84F-40F5-A70D-A5AC0009C0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ho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900000" y="549360"/>
            <a:ext cx="3167280" cy="2455920"/>
            <a:chOff x="900000" y="549360"/>
            <a:chExt cx="3167280" cy="2455920"/>
          </a:xfrm>
        </p:grpSpPr>
        <p:graphicFrame>
          <p:nvGraphicFramePr>
            <p:cNvPr id="96" name=""/>
            <p:cNvGraphicFramePr/>
            <p:nvPr/>
          </p:nvGraphicFramePr>
          <p:xfrm>
            <a:off x="900000" y="620640"/>
            <a:ext cx="3048120" cy="236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0000" y="620640"/>
                      <a:ext cx="304812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" name=""/>
            <p:cNvGrpSpPr/>
            <p:nvPr/>
          </p:nvGrpSpPr>
          <p:grpSpPr>
            <a:xfrm>
              <a:off x="1332000" y="836640"/>
              <a:ext cx="1152360" cy="405720"/>
              <a:chOff x="1332000" y="836640"/>
              <a:chExt cx="1152360" cy="40572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1332000" y="1012680"/>
                <a:ext cx="256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88320" y="836640"/>
                <a:ext cx="896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r>
                  <a:rPr b="1" lang="en-GB" sz="1800" spc="-1" strike="noStrike" baseline="-25000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900000" y="549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5280" y="2637000"/>
              <a:ext cx="432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35280" y="1125360"/>
            <a:ext cx="4249080" cy="706680"/>
            <a:chOff x="1835280" y="1125360"/>
            <a:chExt cx="4249080" cy="706680"/>
          </a:xfrm>
        </p:grpSpPr>
        <p:sp>
          <p:nvSpPr>
            <p:cNvPr id="104" name=""/>
            <p:cNvSpPr/>
            <p:nvPr/>
          </p:nvSpPr>
          <p:spPr>
            <a:xfrm flipH="1">
              <a:off x="1835280" y="1450080"/>
              <a:ext cx="1975680" cy="38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3512160" y="1125360"/>
                  <a:ext cx="2572200" cy="57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"/>
          <p:cNvSpPr/>
          <p:nvPr/>
        </p:nvSpPr>
        <p:spPr>
          <a:xfrm>
            <a:off x="4572000" y="2133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λ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= the decay constant – measures the probability of an atom dec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ff"/>
                </a:solidFill>
                <a:latin typeface="Arial"/>
                <a:ea typeface="Arial"/>
              </a:rPr>
              <a:t>λ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has units of seconds</a:t>
            </a:r>
            <a:r>
              <a:rPr b="1" lang="en-GB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05360"/>
            <a:ext cx="38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hen N = ½ N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, t = t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00720" y="4005360"/>
                <a:ext cx="2592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71640" y="5300640"/>
                <a:ext cx="1996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00720" y="5013360"/>
                <a:ext cx="22762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885D4-DDF7-4398-984E-3E08244579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042920" y="1341360"/>
            <a:ext cx="7343640" cy="3816000"/>
            <a:chOff x="1042920" y="1341360"/>
            <a:chExt cx="7343640" cy="3816000"/>
          </a:xfrm>
        </p:grpSpPr>
        <p:sp>
          <p:nvSpPr>
            <p:cNvPr id="113" name=""/>
            <p:cNvSpPr/>
            <p:nvPr/>
          </p:nvSpPr>
          <p:spPr>
            <a:xfrm>
              <a:off x="1042920" y="1341360"/>
              <a:ext cx="7343640" cy="38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866960" y="1888200"/>
              <a:ext cx="3628440" cy="3070440"/>
              <a:chOff x="1866960" y="1888200"/>
              <a:chExt cx="3628440" cy="3070440"/>
            </a:xfrm>
          </p:grpSpPr>
          <p:graphicFrame>
            <p:nvGraphicFramePr>
              <p:cNvPr id="115" name=""/>
              <p:cNvGraphicFramePr/>
              <p:nvPr/>
            </p:nvGraphicFramePr>
            <p:xfrm>
              <a:off x="1866960" y="1977840"/>
              <a:ext cx="3492000" cy="2980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66960" y="1977840"/>
                        <a:ext cx="3492000" cy="298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17" name=""/>
              <p:cNvGrpSpPr/>
              <p:nvPr/>
            </p:nvGrpSpPr>
            <p:grpSpPr>
              <a:xfrm>
                <a:off x="2361240" y="2250720"/>
                <a:ext cx="1320480" cy="405720"/>
                <a:chOff x="2361240" y="2250720"/>
                <a:chExt cx="1320480" cy="405720"/>
              </a:xfrm>
            </p:grpSpPr>
            <p:sp>
              <p:nvSpPr>
                <p:cNvPr id="118" name=""/>
                <p:cNvSpPr/>
                <p:nvPr/>
              </p:nvSpPr>
              <p:spPr>
                <a:xfrm flipH="1">
                  <a:off x="2361240" y="2472480"/>
                  <a:ext cx="293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654640" y="2250720"/>
                  <a:ext cx="1027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Arial"/>
                    </a:rPr>
                    <a:t>A</a:t>
                  </a:r>
                  <a:r>
                    <a:rPr b="1" lang="en-GB" sz="1800" spc="-1" strike="noStrike" baseline="-25000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1866960" y="1888200"/>
                <a:ext cx="49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0760" y="4522680"/>
                <a:ext cx="494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2843280" y="2708280"/>
            <a:ext cx="4157280" cy="705960"/>
            <a:chOff x="2843280" y="2708280"/>
            <a:chExt cx="4157280" cy="705960"/>
          </a:xfrm>
        </p:grpSpPr>
        <p:sp>
          <p:nvSpPr>
            <p:cNvPr id="123" name=""/>
            <p:cNvSpPr/>
            <p:nvPr/>
          </p:nvSpPr>
          <p:spPr>
            <a:xfrm flipH="1">
              <a:off x="2843280" y="3032640"/>
              <a:ext cx="1975680" cy="38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4611960" y="2708280"/>
                  <a:ext cx="238860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" name=""/>
          <p:cNvSpPr/>
          <p:nvPr/>
        </p:nvSpPr>
        <p:spPr>
          <a:xfrm>
            <a:off x="324000" y="26028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ff"/>
                </a:solidFill>
                <a:latin typeface="Arial"/>
                <a:ea typeface="Arial"/>
              </a:rPr>
              <a:t>As the Activity, A, depends upon the number of atoms in the source, </a:t>
            </a:r>
            <a:r>
              <a:rPr b="1" lang="en-GB" sz="2000" spc="-1" strike="noStrike">
                <a:solidFill>
                  <a:srgbClr val="66ffff"/>
                </a:solidFill>
                <a:latin typeface="Arial"/>
              </a:rPr>
              <a:t>the Activity also decays exponen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5877000"/>
            <a:ext cx="56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.B.  Active isotopes have short half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CF6D-0EDE-478D-B46E-E690A7BA7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76720" y="620640"/>
                <a:ext cx="2573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84360" y="170028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ifferenti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00360" y="1557360"/>
                <a:ext cx="3722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132000" y="2708280"/>
                <a:ext cx="2873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λ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97164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41720" y="4005360"/>
                <a:ext cx="4709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ity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λ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42920" y="530064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i.e.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The activity = the number of atoms 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the source times the deca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B303-B57B-46EC-AF83-1F558FF5D4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404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UNITS OF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125360"/>
            <a:ext cx="756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CQUERELS  - Bq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177840" y="2492280"/>
            <a:ext cx="89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1 Bq  =  one disintegration per 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422100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Gray (Gy)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– the amount of radiation causing 1 kg of tissue to absorb 1 joule (J)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50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Other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537372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ievert (Sv)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– Arbitrary unit, based on the Gray 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but adjusted to account for damage to living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0B4C-9FCC-413E-A7C2-C285F5B8F0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333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907920"/>
            <a:ext cx="61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A radioactive source contains 1 x 10</a:t>
            </a:r>
            <a:r>
              <a:rPr b="1" lang="en-GB" sz="2000" spc="-1" strike="noStrike" baseline="30000">
                <a:solidFill>
                  <a:srgbClr val="0033cc"/>
                </a:solidFill>
                <a:latin typeface="Arial"/>
              </a:rPr>
              <a:t>-6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g of plutonium – 239.   The source is found to emit 2300 alpha particles per second in all directions.  Find the half life of pluton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492280"/>
            <a:ext cx="88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ding the number of atoms present in 1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g of plutonium – 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9 g contain 6.02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nce 1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g contain 2.52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940360" y="3357720"/>
                <a:ext cx="2303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λ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79280" y="4076640"/>
            <a:ext cx="473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x 2.52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 9.13 x 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3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635280" y="4365720"/>
                <a:ext cx="39751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3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203040" y="5486400"/>
            <a:ext cx="473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6.   t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/2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= 7.59 x 10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11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s  =  24 06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C739-E571-4AB2-A410-E31C41A04B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6:24:18Z</dcterms:created>
  <dc:creator>John</dc:creator>
  <dc:description/>
  <dc:language>en-US</dc:language>
  <cp:lastModifiedBy>Janet </cp:lastModifiedBy>
  <dcterms:modified xsi:type="dcterms:W3CDTF">2005-05-21T01:05:43Z</dcterms:modified>
  <cp:revision>39</cp:revision>
  <dc:subject/>
  <dc:title>Slide 1</dc:title>
</cp:coreProperties>
</file>